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CC3D-56FB-4612-BAD9-E9F8E0AC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83B5-004E-46F2-A7B0-385D4B8F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641F2-0D06-47DC-9252-A60B3283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8A0CC-15EC-4D1D-A0AD-F4346D8E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FAEF0-A3CF-4A54-A91F-66A6ECB8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E2BD5-2E19-453F-9D6A-8469722D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79DCE-179C-4399-9E2A-5801BB62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55912-2723-4C1D-A32E-29FB4F19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DB902-832E-4692-BCB0-AD725344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73B1F-0A78-40F2-92CF-DDD510AD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0D3B5-DEEF-4F5A-B735-476A9E65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48B1C-398F-4250-9B76-A7A31C5F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7E13-D3C2-45EA-94C8-78E696684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BCAEB-6F61-4D28-B3CB-EAB04F4C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D4FAE-C0A6-49BF-9F48-0FB05B75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A7CA0-CCE5-4E7F-A3B9-2257EBB9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371CD-4B32-4B9E-A69B-AF39478A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322A2-2162-42C8-AF9C-64E90E8B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204F1-47F4-45F9-87F1-F8C5A3DA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38801-82E7-41BA-BAA3-80B05EB8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58A55-1C87-4A3A-84F0-8410DCDD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ACC72-4C7B-4179-9173-8AA984FE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1B9F2-21A3-473E-B060-96B1BF93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18AE-86B3-4F5C-8C1C-22976ED6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8702E-3765-43E9-BA82-C89DE53E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1F630-268F-4CDF-A26B-AFF464B09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BE0CE-E390-4A23-B1DD-29E3C28C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B6AB2-BA09-4AD4-AEEF-C073176E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F81AF-C242-4C30-AC36-E2BE99EE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68F96-4AA8-412C-9CFD-4366A363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D1DD1-2800-49B7-A278-98B2C385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AE317-A60D-452E-8F5C-D2E246DE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FB9C0-1CC6-480F-BC9D-8C7928C6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BA13D-2EC5-460A-A089-6A8D233C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F32C-E629-4B6C-98D4-43BFFB28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B85C0-6B9F-47AB-A789-C0D3DD55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D1034-E74A-4B0D-B9FD-0DD29570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0CC88-E140-4E8B-B64C-4CEB12C9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2A51A-1A08-432A-986E-D7DE1626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E376B-094E-468B-9695-4FBEB35D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20E9B-53E7-45B9-ABAE-20FA5F47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18A63-518B-49EC-9F89-59ECBBCE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4D268-5C6E-4FDC-8E36-E5A6FCAC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A8516-28E8-42F1-98DF-58431A21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6E8EE-8DE1-4AD2-8084-187B7A6C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5FD2-A915-4698-91F5-A1BC24AC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DEAE4-BBC4-4DF1-BF38-F8DE9AD6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8505B-E255-49A3-B0E5-2AA04932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DCC3F-D183-496A-B283-2E57719A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68AF3-54DE-4A50-9418-F29CAE25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F1521-177D-4BC8-A892-40824C15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0D69-48E4-4A53-9A96-C05690F9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DDD5-5D87-447D-9D58-D772038E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15EB-FF5B-4668-A753-C7D48FF6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9FA8-E094-48CC-8340-211A612C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39E3-04C1-41D2-928D-34B1656E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44F6-AEDA-451B-B25B-5CE03B32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03F6-E242-49D0-B70F-D040AF6B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5E8E-9186-434E-A96D-479C7328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12D3-74EE-4459-B6C1-FE602A79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9E6D-B039-446A-92CF-7924363D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85F9-57B7-45C1-9CC5-0ED21E76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93BC6-3158-487D-9272-454BE60B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1A19D-9739-4FA4-BCCF-0A48C8BB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EFA03-ED80-4773-A145-4DC90255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48F3A-5B33-4EBC-9609-06B8807D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A287B-6628-442B-AF0D-A2A29B68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8CC9-F879-4A24-BE95-D39584DD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2045D-D549-45B3-A71E-4E8C51AC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7954F-DD6A-4B0F-BC63-12ED9BC9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CD8DE-E4A4-4014-895E-7582581E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15A80-319C-4DCF-AA03-D6B40609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B7C12-2ACD-4AF3-91EB-252807C5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A263E-D201-4A69-A7CB-051A8660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BCF9A-FECB-4CFE-8BDC-524F7C72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2E394-28D7-4714-A9C5-AE151A1D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8E3A9-CCA6-4895-8CFA-A61F6014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68351-9282-4129-A2E7-44FECD25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4CB6-E35F-4D4E-9705-9D9A97CD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33943-FBE9-41A7-9D17-6B5E4906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33F07-6B41-4C0D-A115-4C538094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42073-B77A-4B37-B67C-DAD31AEE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EFCE1-FF1E-451B-A66A-15982CE8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7FCA7-AFEE-4B1A-AD84-E49EE4E4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FA72C-B043-45E9-AEC2-E38EC6C8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0A914-6220-4C5F-864D-A3190196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D5B0E-2261-4373-BAEC-3C317E21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E8D69-E61E-4E3D-A881-84DBF39D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8B30AD-2402-453C-A519-A1915554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965D-D514-4960-AAE8-378ADC44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F5CDF4-3473-480E-9997-75E79AD9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FDE5FE-63E1-4A98-8182-66390577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F7572E-4AB7-43AE-A639-1D522AFB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0863D7-08DC-497D-B5E8-E5FC7D4C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84F9D8-EB9D-4D32-8440-1DC6D25A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386F5F-CCE7-4253-BF33-BB7BFE63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673C01-1075-4A56-A274-B435F32B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932193-3151-4D04-A7F0-E2585919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C0FEA4-CA86-495A-A279-8ABDAE33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9C0866-2038-4BB4-AD3A-6DD60EE6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1A9A-6446-4D5B-BB6E-9A504BBA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650762-98A9-44D6-B16F-2D79C5B8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058B2-3523-4EFF-A90A-9438EBCB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28061-B62A-4C06-BB18-100F5C03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E3DA5-C41B-4B86-BE06-3BB12B95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3D059-5D0F-43EB-8C9C-CA78E0EC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08057-C8A1-41E1-B1B8-CA901B9F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949A3-0695-4E54-AADF-47683B83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19199-7EF1-464B-8AFE-AD788A39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216AB-0653-4A9C-88A7-5E374CAD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6CCDF-0B38-4375-B7F8-7FB1579A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2604-40F9-4F75-86F6-C3CC4FEE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44BA1-F278-4328-B5F1-E714023C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62AE3-6163-4219-A733-B141B90A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787CF-CB77-4DA6-A2C1-A92F2552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D49D6-ADAE-4C39-865B-0BB71A22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46707-0FFA-4884-A41B-3C9D8667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6F268-9631-46F0-9013-0314F0DA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DCB27-F83B-425A-A558-8BA45C28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4F496-B1D3-458F-A1AA-A6B76E2E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633EE-D6D0-42AA-9CB1-DCEDF847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80A79-DB18-4987-872B-DF3216D2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FBCF-23A7-4288-9248-FEADEA0A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47535-75A3-46AE-B6FB-25FC8F79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F193B-E03B-47EB-8817-C46CCD4E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21DB5-6E5A-4E4E-A593-F26A031B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B5EF5-FF6F-4321-B675-C4ABC00B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6BAEF-A588-423D-A575-9B633797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D62B8-C879-434F-9542-0D88E302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48D5C-B1E5-4A3E-83D5-7478A30E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DFC03-C0EB-4D21-B601-D6CFCBE1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4B21C-4F77-463E-9413-C2CA737F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C7B0F-7184-4A14-826A-5659E84D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04F2-455B-4E0B-BBF5-2EDA84B6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A94C1-B5A9-4A04-A21F-745E0E95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04E77-4D30-46E9-A709-7690D55B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48564-7A31-460C-BD33-99DEE05E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9052A-7DF7-4D60-8049-FBECF7E1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74BDA-CB4A-4AB9-BC9D-89DBBDFE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291BB-E8AC-4397-8FCA-E45EA96F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077EA-6046-40E6-9A6D-893A1A23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7B373-B32F-4CFA-8B8C-FC4331D7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9E6F4-1DCF-480D-B4AE-08A0B68D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CC1A7-4D16-4D25-BA25-189CCB75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A8CF-5B2D-42D0-BFA5-BDE785F51B7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73DA-ED0C-49A1-B4F7-A1EE83AB6F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59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59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60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60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61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1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2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64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65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65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5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6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6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66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67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67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68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68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69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69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69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70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70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70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1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2045-DD33-4DC0-943E-3DD0328BF9F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77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7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7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7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8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8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8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8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9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9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9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9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80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80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80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81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81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81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82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82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82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82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83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83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83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84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84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4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84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85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5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5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6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6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6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7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7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7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7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8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8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8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9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5A91-879F-41EF-BEC5-351878B2A42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F8BC-BBF0-4B61-AAFE-97A04691B1F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9977-D840-4613-99C9-77F52DA669D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8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4A38-250F-42E0-BBC9-E71F7CDD18C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3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6E36-96C1-4E27-A65A-A145A9BFFF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4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CFA3-EE36-43FC-A450-2F6FDB458F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05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EBF6-79C6-4DDF-83ED-DDDEFD0E8F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52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40EB-065F-4588-8EA4-7E2957435F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F764-BAE4-4FEB-8C67-1043DB9F8D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stellar"/>
              </a:rPr>
              <a:t>Аквариумнист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" descr=""/>
          <p:cNvPicPr/>
          <p:nvPr/>
        </p:nvPicPr>
        <p:blipFill>
          <a:blip r:embed="rId1"/>
          <a:stretch/>
        </p:blipFill>
        <p:spPr>
          <a:xfrm>
            <a:off x="2971800" y="3505320"/>
            <a:ext cx="34290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371600" y="1677600"/>
            <a:ext cx="6400800" cy="1219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Тема проекта: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1549080" y="3200040"/>
            <a:ext cx="603252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Аквариум в детском саду и его тайные сокровищ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Times New Roman"/>
              </a:rPr>
              <a:t>Дидактические цели проекта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196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Формирование компетентности в области методики экологического образования, информа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Развитие самостоятельности, креатив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Развитие исследовательских умений и навыков работы в команде, словестно - логического мыш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етодические задачи проект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00000" y="1982520"/>
            <a:ext cx="7196400" cy="32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бъяснить основные понятия: аквариум, сачок, сифо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казать практические знания аквариу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знакомить с растениями и обитателями аквариу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150920" y="333360"/>
            <a:ext cx="74772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д проектом работал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182600" y="2189160"/>
            <a:ext cx="7772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Алексеева Инг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Герасимов Иль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Герасимова Мар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улик Алес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Шарыгина Мар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ы индивидуальных проект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е и место аквариума в ДО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ения аквариума, как структурный компонент  биоцен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вариум- модель искуственно - созданной эко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овой состав обитателей аквариума в зависимости от возраста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а ознакомления дошкольников разных возрастных групп с обитателями аквари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 результате работы были оформлен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к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рани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йт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97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5600" spc="-1" strike="noStrike">
                <a:solidFill>
                  <a:srgbClr val="ffcc00"/>
                </a:solidFill>
                <a:latin typeface="Arial Black"/>
              </a:rPr>
              <a:t>Спасибо за внимание!</a:t>
            </a:r>
            <a:endParaRPr b="0" lang="en-US" sz="5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6T14:43:52Z</dcterms:created>
  <dc:creator>Инга</dc:creator>
  <dc:description/>
  <dc:language>en-US</dc:language>
  <cp:lastModifiedBy>Инга</cp:lastModifiedBy>
  <dcterms:modified xsi:type="dcterms:W3CDTF">2010-06-06T15:45:2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